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035C-EA0C-447D-BF2A-ED39D63FD2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C4F-FF8F-445F-BAF9-60EA09D11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555-A36B-49B7-891D-028FC6DB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3C5-74A2-4F00-83F4-3ED5630E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EE1-3D8B-4BD6-BE3E-02C4F4BD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DE1-6189-4C67-9BA0-CD40F7AA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D71-8111-4FA0-9C73-DF953DF1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180-8FDD-4E8B-898D-22CBEB84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45B-9F46-47CA-B691-887D2101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0AD-B413-4537-A920-A85088E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06A-242D-4F43-9273-9375BC07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1B6-7213-4306-8FE1-0159BC6D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DB7-B2DD-4F20-9713-7DB07FF9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D43-6499-4500-BCAF-CB170FD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43BF-3D11-46B4-B02A-5FE5CE81B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1\Desktop\графика Настя\1.jpg"/>
          <p:cNvPicPr/>
          <p:nvPr/>
        </p:nvPicPr>
        <p:blipFill>
          <a:blip r:embed="rId1"/>
          <a:stretch/>
        </p:blipFill>
        <p:spPr>
          <a:xfrm>
            <a:off x="0" y="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1\Desktop\графика Настя\2.jpg"/>
          <p:cNvPicPr/>
          <p:nvPr/>
        </p:nvPicPr>
        <p:blipFill>
          <a:blip r:embed="rId2"/>
          <a:stretch/>
        </p:blipFill>
        <p:spPr>
          <a:xfrm>
            <a:off x="6929280" y="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1\Desktop\графика Настя\3.jpg"/>
          <p:cNvPicPr/>
          <p:nvPr/>
        </p:nvPicPr>
        <p:blipFill>
          <a:blip r:embed="rId3"/>
          <a:stretch/>
        </p:blipFill>
        <p:spPr>
          <a:xfrm>
            <a:off x="0" y="3429000"/>
            <a:ext cx="178596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1\Desktop\графика Настя\4.jpg"/>
          <p:cNvPicPr/>
          <p:nvPr/>
        </p:nvPicPr>
        <p:blipFill>
          <a:blip r:embed="rId4"/>
          <a:stretch/>
        </p:blipFill>
        <p:spPr>
          <a:xfrm>
            <a:off x="6715080" y="3143160"/>
            <a:ext cx="2428920" cy="235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500120" y="0"/>
            <a:ext cx="5786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 Black"/>
              </a:rPr>
              <a:t>Проект по тем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 Black"/>
              </a:rPr>
              <a:t>«Как научить ребенка преобразовывать графическую информаци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571760" y="4714920"/>
            <a:ext cx="50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lackadder ITC"/>
              </a:rPr>
              <a:t>Составили:</a:t>
            </a: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 Барабанова  Наст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Билецкая Свет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студенты 646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lackadder ITC"/>
              </a:rPr>
              <a:t>Проверила:</a:t>
            </a: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 Габова М. А</a:t>
            </a:r>
            <a:r>
              <a:rPr b="0" lang="ru-RU" sz="1800" spc="-1" strike="noStrike">
                <a:solidFill>
                  <a:srgbClr val="ff33cc"/>
                </a:solidFill>
                <a:latin typeface="Blackadder IT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6) 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Выполни задание из разнообразных геометрических фигу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сделай человечка сначала прямоугольного, потом просто лиц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человечка, а в конце сделай треугольного человечка. ( стр.42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Г. Гоголева. Игры и упражнения  для развития конструктив</a:t>
            </a:r>
            <a:r>
              <a:rPr b="1" lang="ru-RU" sz="2400" spc="-1" strike="noStrike">
                <a:solidFill>
                  <a:srgbClr val="2f8a1a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ого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логического мышл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7) 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Из разнообразных геометрических фигур построй снач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круглый домик, а затем треугольный. (стр.6 Веселая академ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8) 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Построй из разнообразных  фигур геометрический ряд. 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стр.13 источник тот ж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9) 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Подумай как из нескольких фигур составить единое цел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например: из двух треугольников составить квадрат. ( стр.16 .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чтоб никто не догадался). Подумай и объясни как 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разнообразных геометрических фигур получить разнообраз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предметы ( стр.41 источник тот же что и в шестом задани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Рекомендуемая литератур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В. Г. Гоголева. Игры и упражнения для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нструктивного и логического мышления у детей 4-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лет. Библиотека программы «Детство»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рапу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Чтобы никто не догадался 5 лет. Нестандарт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задачки на пространственное  мышление.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воображения.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Веселая академия Пер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геометрические фигуры 3-4 года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Е. В. Колеснико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ешаю логические задачки. Рабочая тетрадь дл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5-7 лет. ТЦ «СФЕРА». Москва. 2007 год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рапу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тражение 5-7 лет. Нестандартные задачки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остранственное мышление. Развитие мышления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1\Desktop\Зачётная работа по графики\сканирование0001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1\Desktop\Зачётная работа по графики\сканирование0002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286000" y="2143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500040" y="26431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cc"/>
                </a:solidFill>
                <a:uFillTx/>
                <a:latin typeface="Monotype Corsiva"/>
              </a:rPr>
              <a:t>Наши подтемы:</a:t>
            </a:r>
            <a:r>
              <a:rPr b="1" lang="ru-RU" sz="4000" spc="-1" strike="noStrike" u="sng">
                <a:solidFill>
                  <a:srgbClr val="cc00cc"/>
                </a:solidFill>
                <a:uFillTx/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1) Преобразование изображений ( форма, величина, количество, пространственное расположение изображений и их частей) на основе преобразования соответствующих реальных конструкци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 </a:t>
            </a: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2) Преобразование конструкций на основе преобразования соответствующих изображени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   </a:t>
            </a: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3) Преобразование фигур и изображений по заданному условию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Monotype Corsiva"/>
              </a:rPr>
              <a:t>Цель: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5400"/>
            </a:br>
            <a:r>
              <a:rPr b="1" lang="ru-RU" sz="4400" spc="-1" strike="noStrike">
                <a:solidFill>
                  <a:srgbClr val="cc00cc"/>
                </a:solidFill>
                <a:latin typeface="Comic Sans MS"/>
              </a:rPr>
              <a:t>Научить детей дошкольного возраста преобразовывать графическую информацию по заданному образ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Monotype Corsiva"/>
              </a:rPr>
              <a:t>Задачи: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  </a:t>
            </a: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Учить детей с помощью анализа 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синтеза преобразовывать, графическ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информац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Учить детей ориентироваться 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листе бумаге для пре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графической информ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Учить детей соотносить фигуры 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заданному образцу для пре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графической информ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ff"/>
                </a:solidFill>
                <a:latin typeface="Edwardian Script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ff"/>
                </a:solidFill>
                <a:uFillTx/>
                <a:latin typeface="Monotype Corsiva"/>
              </a:rPr>
              <a:t>Актуальность нашей темы заключается  в следующе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На основе преобразова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графической информации познакомить детей с различными  способами этих преобразова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ff"/>
                </a:solidFill>
                <a:uFillTx/>
                <a:latin typeface="Calibri"/>
              </a:rPr>
              <a:t>Поразмышляем над вопрос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Что такое графическая информац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2) С какого возраста необходимо обучать детей преобразовывать графическую информацию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 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3) Какие задания целесообразно использовать для преобразования графической информаци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4) Какие психические процессы лежат в основе умений преобразовывать информацию.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Arial Unicode MS"/>
              </a:rPr>
              <a:t> 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6369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0000"/>
                </a:solidFill>
                <a:uFillTx/>
                <a:latin typeface="Arial Black"/>
              </a:rPr>
              <a:t>Примеры задани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50020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1\Desktop\графика Настя\2.3.jpg"/>
          <p:cNvPicPr/>
          <p:nvPr/>
        </p:nvPicPr>
        <p:blipFill>
          <a:blip r:embed="rId2"/>
          <a:stretch/>
        </p:blipFill>
        <p:spPr>
          <a:xfrm>
            <a:off x="3214800" y="0"/>
            <a:ext cx="2571480" cy="221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1\Desktop\графика Настя\2.4.jpg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1\Desktop\графика Настя\3.1.jpg"/>
          <p:cNvPicPr/>
          <p:nvPr/>
        </p:nvPicPr>
        <p:blipFill>
          <a:blip r:embed="rId4"/>
          <a:stretch/>
        </p:blipFill>
        <p:spPr>
          <a:xfrm>
            <a:off x="0" y="221472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1\Desktop\графика Настя\3.2.jpg"/>
          <p:cNvPicPr/>
          <p:nvPr/>
        </p:nvPicPr>
        <p:blipFill>
          <a:blip r:embed="rId5"/>
          <a:stretch/>
        </p:blipFill>
        <p:spPr>
          <a:xfrm>
            <a:off x="3214800" y="2286000"/>
            <a:ext cx="2643120" cy="1928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Users\1\Desktop\графика Настя\3.3.jpg"/>
          <p:cNvPicPr/>
          <p:nvPr/>
        </p:nvPicPr>
        <p:blipFill>
          <a:blip r:embed="rId6"/>
          <a:stretch/>
        </p:blipFill>
        <p:spPr>
          <a:xfrm>
            <a:off x="6715080" y="2357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1\Desktop\графика Настя\4.2.jpg"/>
          <p:cNvPicPr/>
          <p:nvPr/>
        </p:nvPicPr>
        <p:blipFill>
          <a:blip r:embed="rId7"/>
          <a:stretch/>
        </p:blipFill>
        <p:spPr>
          <a:xfrm>
            <a:off x="0" y="450072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1\Desktop\графика Настя\4.3.jpg"/>
          <p:cNvPicPr/>
          <p:nvPr/>
        </p:nvPicPr>
        <p:blipFill>
          <a:blip r:embed="rId8"/>
          <a:stretch/>
        </p:blipFill>
        <p:spPr>
          <a:xfrm>
            <a:off x="3286080" y="4429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:\Users\1\Desktop\графика Настя\4.4.jpg"/>
          <p:cNvPicPr/>
          <p:nvPr/>
        </p:nvPicPr>
        <p:blipFill>
          <a:blip r:embed="rId9"/>
          <a:stretch/>
        </p:blipFill>
        <p:spPr>
          <a:xfrm>
            <a:off x="6786720" y="4429080"/>
            <a:ext cx="23572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Monotype Corsiva"/>
              </a:rPr>
              <a:t>Поиграем в преобраз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1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смотри на первую картинку затем на вторую и скажи, что изменилось в ходе преобразования. (стр. 5 источник: я решаю логические задачки. Е. В. Колесникова).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умай и объясни как из елочки получилась рыбка с помощью каких геометрических фигур. ( стр. 14 источник тот же )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3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умай и объясни как из домика получилась ракета с помощью каких геометрических фигур. ( стр.15 источник тот же)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4)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умай и расскажи как можно из данных геометрических фигур составить зайчика. ( стр.16 источник тот же)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5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умай и объясни как из данных геометрических фигур можно получить собачку. (стр.17 источник тот ж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5:13:09Z</dcterms:created>
  <dc:creator>НОУТбутик</dc:creator>
  <dc:description/>
  <dc:language>en-US</dc:language>
  <cp:lastModifiedBy>1</cp:lastModifiedBy>
  <dcterms:modified xsi:type="dcterms:W3CDTF">2008-12-22T11:25:04Z</dcterms:modified>
  <cp:revision>33</cp:revision>
  <dc:subject/>
  <dc:title>Слайд 1</dc:title>
</cp:coreProperties>
</file>